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38835"/>
        <c:axId val="24643562"/>
      </c:barChart>
      <c:catAx>
        <c:axId val="37038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43562"/>
        <c:crosses val="autoZero"/>
        <c:auto val="1"/>
        <c:lblAlgn val="ctr"/>
        <c:lblOffset val="100"/>
        <c:noMultiLvlLbl val="0"/>
      </c:catAx>
      <c:valAx>
        <c:axId val="24643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38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3D7-04FC-40C5-BAEB-1E20DB29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66A-22BF-409C-B800-C1A989CC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3D9-00BA-42EA-BFA2-C9C0C8B7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5C2-D12D-405D-948A-B1D2FF3C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5276-7CE6-4C30-8B82-FCD4A763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9A5-2AD1-4348-AA80-D2A7BAA9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446-1783-4AAE-B201-7C30649A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1B2-61A2-44BC-BEAF-8800C687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314B-5DBE-4CD4-A654-57CF44CB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19F-61C4-43B4-B904-16DBEE6F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6FB-6781-4BAA-9DFB-20982FDC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65B-70D9-45B2-94E7-91CB2B0A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C28CA-5ACC-4E22-B591-942ECA2111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