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>
            <a:off x="216720" y="-181440"/>
            <a:ext cx="2062080" cy="113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8280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1601-01-06T02:10:04Z</dcterms:modified>
  <cp:revision>2</cp:revision>
  <dc:subject/>
  <dc:title>Slide 1</dc:title>
</cp:coreProperties>
</file>