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98524"/>
        <c:axId val="48754510"/>
      </c:barChart>
      <c:catAx>
        <c:axId val="68498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54510"/>
        <c:crosses val="autoZero"/>
        <c:auto val="1"/>
        <c:lblAlgn val="ctr"/>
        <c:lblOffset val="100"/>
        <c:noMultiLvlLbl val="0"/>
      </c:catAx>
      <c:valAx>
        <c:axId val="48754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8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1B3-B5B4-40B4-A14F-1AD08BA0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D3A-9DE5-40F7-AF4A-19278214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735-3EB3-484D-9C2A-9AA7514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928-8C03-44B2-8848-595D4862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484-2923-43E4-BAF0-136D495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14B-A76C-462A-B682-FE92975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C26-6064-4076-BC81-FF0EE94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C90-C98D-43CF-96CC-0296EE1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683-98CE-451B-BC86-3502F5A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0E4-9B13-4002-AFAF-E7130D4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5B9-F473-4AF1-BA5E-63D6501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761-C6E2-4BA7-895C-B12D62B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E0982-06FC-431A-A7DA-0AC0C7990B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