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03660"/>
        <c:axId val="10656855"/>
      </c:barChart>
      <c:catAx>
        <c:axId val="14803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6855"/>
        <c:crosses val="autoZero"/>
        <c:auto val="1"/>
        <c:lblAlgn val="ctr"/>
        <c:lblOffset val="100"/>
        <c:noMultiLvlLbl val="0"/>
      </c:catAx>
      <c:valAx>
        <c:axId val="10656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3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925-32BC-4469-BA1E-2BB9A9A7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CCC-2D05-4F4E-93B8-02CE7E0C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BF1-6DCF-453C-9245-9331CB93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DB0-0844-47A1-9447-629364BC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D3A-5098-42DE-BD64-512E38C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F13-6477-4B41-BB08-622FF8F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D80-586C-4195-8602-4B50DE2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2E0-7576-4A25-A02F-5D12A66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A65-D536-4E71-9BA9-86549A1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0C3-E124-445B-9E53-D42E113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477-AB6D-417A-A17A-DDB5422D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585-9049-4858-96AA-5D07311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B210-9995-4251-B070-CB5760386C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