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93876"/>
        <c:axId val="46827041"/>
      </c:barChart>
      <c:catAx>
        <c:axId val="15793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27041"/>
        <c:crosses val="autoZero"/>
        <c:auto val="1"/>
        <c:lblAlgn val="ctr"/>
        <c:lblOffset val="100"/>
        <c:noMultiLvlLbl val="0"/>
      </c:catAx>
      <c:valAx>
        <c:axId val="46827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93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594-10E2-471D-ADFC-F3447135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D01-94C0-4EF8-A337-3892FE24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2A2-E504-44FB-8A37-BFB1EF16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EB8-F68F-438D-A6AA-2B8549F5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0C79-E27E-475B-8DEF-64DAD68C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631-4760-449B-898A-3F4D6611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7F8-0459-487D-BFD6-CCCC6006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563-325F-4C31-B967-01579D5B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352-EA6D-4C16-9511-2078E061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3B6-40E5-4007-9ED8-661F2216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B65-BA4B-4CA0-899C-2431084F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D10-14F9-40D2-A7E9-11696460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42125-C0E6-49C0-9769-0DE359E59B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