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21404"/>
        <c:axId val="81590490"/>
      </c:barChart>
      <c:catAx>
        <c:axId val="70214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590490"/>
        <c:crosses val="autoZero"/>
        <c:auto val="1"/>
        <c:lblAlgn val="ctr"/>
        <c:lblOffset val="100"/>
        <c:noMultiLvlLbl val="0"/>
      </c:catAx>
      <c:valAx>
        <c:axId val="815904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214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8BED-AF70-40D4-BDAD-6DCF49C08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C1AF-A1B2-4E0C-A9BA-DCEBE81F7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8259-9BD2-4D70-8F3E-DFEEE4F86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6F9F-7447-43D9-AD1F-B2740EEE2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1E7F-6D48-4EC2-857E-4CE55F2C6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58BF-277B-4FEE-BB56-20583D529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B974-6F22-46E4-9950-9F7A61748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7733-0C05-4A9E-AAF3-911430A5A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DD88-71D3-4D25-9B91-8011B4110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CE1F-0CDF-46AE-A044-45455E98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CA89-2336-47CD-882E-6430860F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4E21-1D86-47FD-B801-C3294B16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2992B7-DA01-43AC-8AD0-AE04E646672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