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747874"/>
        <c:axId val="48017651"/>
      </c:barChart>
      <c:catAx>
        <c:axId val="487478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017651"/>
        <c:crosses val="autoZero"/>
        <c:auto val="1"/>
        <c:lblAlgn val="ctr"/>
        <c:lblOffset val="100"/>
        <c:noMultiLvlLbl val="0"/>
      </c:catAx>
      <c:valAx>
        <c:axId val="480176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7478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B8CA-FFFC-4D7B-ACFA-4189D3840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2009-F0D6-4B67-8906-1EF32A12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9A92-F81B-444E-BF1C-0E29F937C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4EF5-57F0-40CB-83AF-FB0D27F1C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0B11-3116-4024-A8C3-FD9E181D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3194-4667-4A6F-AADB-1CF01EDE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AB33-4FD4-4BBC-A769-6D33AF02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467F-1E6D-4968-8566-F26D6FEA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0872-3DBF-4536-B8E4-B53E3D4A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E05B-47F5-4481-B35E-A8DC8266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8301-2953-4103-9C08-E7B47ECD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2861-DAC5-4839-9359-56180052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789E95-ABE5-44AA-A61B-0C4D90AE3F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