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07427"/>
        <c:axId val="71170810"/>
      </c:barChart>
      <c:catAx>
        <c:axId val="74907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70810"/>
        <c:crosses val="autoZero"/>
        <c:auto val="1"/>
        <c:lblAlgn val="ctr"/>
        <c:lblOffset val="100"/>
        <c:noMultiLvlLbl val="0"/>
      </c:catAx>
      <c:valAx>
        <c:axId val="71170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07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A94-F5A3-4ADF-A898-D0C03278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B25-B5D6-4BB7-B08F-36C0BEF7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EE0-7A09-473B-975B-BEEC8D58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F20-3E49-4F42-86F5-201E307B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001-D888-4CF8-BB2F-C726B48C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B19-508B-432D-91A6-4228E576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8CB-083B-47A2-9ACD-B07A7DDE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4F7-72FC-46B0-A45E-F89F2EF5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F78-A19F-41D7-8C60-67FBD3C1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64B-6D6B-480F-AD84-B6C76AF2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70F-FD60-416B-8FA0-6F2A9F5B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469-416A-4CED-ABE6-A0D9B0A7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22444-D84D-4CED-9F77-94094F2B45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