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31407"/>
        <c:axId val="39889679"/>
      </c:barChart>
      <c:catAx>
        <c:axId val="68631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89679"/>
        <c:crosses val="autoZero"/>
        <c:auto val="1"/>
        <c:lblAlgn val="ctr"/>
        <c:lblOffset val="100"/>
        <c:noMultiLvlLbl val="0"/>
      </c:catAx>
      <c:valAx>
        <c:axId val="39889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31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A67-FDC3-45A1-835F-8AD5CFCD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750-CDE0-46B4-8CB9-697C567E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D0F-AC64-4900-83BB-B9772650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93C-8A9F-49F3-8533-789E29B8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390-5C48-46FE-A8FD-6C93A08E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3B6-6F45-4B33-89DB-1AD060F1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206-5AE1-4748-A3BA-F8F752D3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9A4-909A-491B-8567-0EB88F22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05C-4B95-4614-AF66-BCD813C6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AB5-3E7C-4F07-B26F-76E9AEED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ED5-51EB-4E8A-988A-1DECD587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0DA-82B7-479D-9BCA-AF60BD8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2C579-627C-47ED-BD37-186FCC2480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