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31258"/>
        <c:axId val="81018525"/>
      </c:barChart>
      <c:catAx>
        <c:axId val="61031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18525"/>
        <c:crosses val="autoZero"/>
        <c:auto val="1"/>
        <c:lblAlgn val="ctr"/>
        <c:lblOffset val="100"/>
        <c:noMultiLvlLbl val="0"/>
      </c:catAx>
      <c:valAx>
        <c:axId val="81018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31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222-29CA-410F-A49E-C66E8E13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0A8-96EC-405A-BF36-3F6DFF25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6F2-86BA-4105-956E-BBD076EF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667-0D9E-4141-B0D2-8C765D8E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2C6-CFA6-4ECB-8225-2FD51790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6D5-25DC-4F04-BDED-A42DA564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3FD-C6CC-4018-A139-9B6E53B0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395-C9FB-42D5-85CA-5A54BDF5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3DF-7419-4B4B-9ABA-375AAA03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38D-BF65-4BB6-A426-00D590F2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1C3-F0E3-4BFD-BC30-6FF4A20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AEC-EC45-457F-B78D-BC8976A3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A4571-EDEF-4C81-88DC-01E6EFADD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