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15666"/>
        <c:axId val="22641200"/>
      </c:barChart>
      <c:catAx>
        <c:axId val="96815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41200"/>
        <c:crosses val="autoZero"/>
        <c:auto val="1"/>
        <c:lblAlgn val="ctr"/>
        <c:lblOffset val="100"/>
        <c:noMultiLvlLbl val="0"/>
      </c:catAx>
      <c:valAx>
        <c:axId val="22641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15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9EC-4380-42A8-B001-E111BCB7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84E3-3510-41E8-B176-A2EA0BE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7AE3-504C-4C4F-8311-E7FFD9AD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FD1-8B49-43D6-A09B-8E800774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AD8-4D21-4D06-AEB6-5C881EF9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F69-B887-42E6-A7AA-CCF0A6D7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61F-772F-406B-BC87-88820351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775-A67D-4279-9798-196190F1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BC4-9A20-4B58-ACDD-D99444F3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69B-26EE-4DE0-90B7-E9E74959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01D-3FA0-4961-BA61-7D671388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D30-F1F7-4623-A7B6-83AE9AC1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FE06E-2972-4665-93BE-9C4061A12E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