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13564"/>
        <c:axId val="68582371"/>
      </c:barChart>
      <c:catAx>
        <c:axId val="15413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2371"/>
        <c:crosses val="autoZero"/>
        <c:auto val="1"/>
        <c:lblAlgn val="ctr"/>
        <c:lblOffset val="100"/>
        <c:noMultiLvlLbl val="0"/>
      </c:catAx>
      <c:valAx>
        <c:axId val="68582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13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43B-E7EB-48BA-A0D8-D4697C7A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A87-F672-49C8-A69E-1585D7BA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2C1-7918-4BFA-A19D-600A140D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1A2-0F84-4FB3-BCED-05515D6F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566-1D1C-4FFD-B038-72D1D48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6E5-D6B3-487B-937E-0E7F4144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88A-4FBF-4CD0-A4B1-6DDB258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832-4E78-457C-A397-517DD028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F4C-EB57-468A-854E-C67EE833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D5B-8660-48EE-8E27-CCA39B1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CEA-05F1-40C4-88C0-BDAD7EA2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F7F-6273-4954-AE7F-36CED8F5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37799-7F41-492D-A604-355DE419AA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