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90373"/>
        <c:axId val="95322013"/>
      </c:barChart>
      <c:catAx>
        <c:axId val="58090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22013"/>
        <c:crosses val="autoZero"/>
        <c:auto val="1"/>
        <c:lblAlgn val="ctr"/>
        <c:lblOffset val="100"/>
        <c:noMultiLvlLbl val="0"/>
      </c:catAx>
      <c:valAx>
        <c:axId val="95322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90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F54-9EEB-47E5-AB73-FF93EE7C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A71-8503-449F-886F-B753D201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461-0E71-461A-8889-54A661AB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86A-728D-40A0-9AD5-103847C4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0DD-0749-4288-AD38-3A2FBEB2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436-9870-4B55-948C-C439A649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7CD-7F96-4A86-8F30-44C910D5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D49-0B47-4258-90CB-41F21605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F87-DB35-465C-833B-F1F5E73E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B94-16B8-4D19-8B74-AD76DB03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68C-A901-44BD-A07F-17BD3C74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FFE-846A-4F54-AFAF-2A24BA18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E837A-5796-44EB-B454-404D7D94C7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