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79314"/>
        <c:axId val="1124919"/>
      </c:barChart>
      <c:catAx>
        <c:axId val="42179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4919"/>
        <c:crosses val="autoZero"/>
        <c:auto val="1"/>
        <c:lblAlgn val="ctr"/>
        <c:lblOffset val="100"/>
        <c:noMultiLvlLbl val="0"/>
      </c:catAx>
      <c:valAx>
        <c:axId val="1124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79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B212-159B-4A52-B279-26E652C0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763-E18D-40BC-8DA9-F740DC57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818-0050-47DE-B3D2-B632C52A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A1FD-0EB7-4250-B362-5028D481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BBF-D55E-45A7-BEBD-F40E2F9A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4AE-2D83-41D1-91AD-3301FBAF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E2E-0E02-4C5A-BB56-4A4317EB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E89-57BE-4001-AF05-6C565C9A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6A0-BE53-4554-8B69-A48ECC4F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81D-1659-40E4-873F-0EBA5260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ACA-F9D0-4A07-9B5F-61188B0A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D91-5087-4B92-A188-E12DE33A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06789-D194-41F7-903C-A12CC4B950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