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57018"/>
        <c:axId val="89084728"/>
      </c:barChart>
      <c:catAx>
        <c:axId val="91357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84728"/>
        <c:crosses val="autoZero"/>
        <c:auto val="1"/>
        <c:lblAlgn val="ctr"/>
        <c:lblOffset val="100"/>
        <c:noMultiLvlLbl val="0"/>
      </c:catAx>
      <c:valAx>
        <c:axId val="89084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57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42B-36B0-45F5-9A89-E2205ACB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EF4-5CCC-4E1E-861D-D4F525E6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1F1B-7FA7-497F-8D56-81F44E2F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14A-AE2E-447F-93BA-484D9962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BC0-0C9E-4ED1-A219-C24DB9C3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73C-22EA-4AC1-BB74-5F8C40B8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370A-2BE0-4DC8-A594-71BE05E8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0C2-384D-4825-82CA-F8FC6A7B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B599-F092-4175-8FD7-0D09D723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5D80-E254-4C4E-A0BE-88FEC1F9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52F-8775-4A19-9FEE-727E2E0C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0CA5-A492-4316-A0EF-FCB260B0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3DB43-8C93-496F-9F27-814004FFBC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