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80482"/>
        <c:axId val="53524706"/>
      </c:barChart>
      <c:catAx>
        <c:axId val="13980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24706"/>
        <c:crosses val="autoZero"/>
        <c:auto val="1"/>
        <c:lblAlgn val="ctr"/>
        <c:lblOffset val="100"/>
        <c:noMultiLvlLbl val="0"/>
      </c:catAx>
      <c:valAx>
        <c:axId val="53524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80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6F0-3BB4-4FA1-852F-5E4C9B4F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29F-8894-40B0-803A-CBD9E147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13D-6A9C-4EB0-AADA-51411B0C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9DD-4347-41F5-A1B6-B133B7DD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D1B-8C27-4755-A4CA-3514121F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411-A157-41F7-881F-3B049CFB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9A1-ED3D-4405-AE11-BBF1657A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B2B-BCA7-4D69-AA05-93759506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C0C-D4FB-404F-AF27-116BFC0B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B48-41B5-4799-BB87-A35B6E85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736-37BD-43A7-95E8-7DE53A2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F93-9EF7-425E-BE38-51769920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288C6-148D-40CE-AD02-6A17BE365A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