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8180642"/>
        <c:axId val="61679411"/>
      </c:barChart>
      <c:catAx>
        <c:axId val="6818064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679411"/>
        <c:crosses val="autoZero"/>
        <c:auto val="1"/>
        <c:lblAlgn val="ctr"/>
        <c:lblOffset val="100"/>
        <c:noMultiLvlLbl val="0"/>
      </c:catAx>
      <c:valAx>
        <c:axId val="6167941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18064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8D41-D80E-4F2C-BA4B-2EC3FC9EF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005E-6B90-4481-9FD5-538897ED9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AA81-0A28-4F4D-8067-BE54E21AA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AC16-2426-4EC9-B65D-AF60EDDCC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6C06-2064-4E5B-A43F-AAECD60AC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5473-165C-4BC0-B9E5-BCD9D15AD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3CC3-20F0-45F4-A38F-905B6BE76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249B-6D5C-425A-88F5-10F0ACF7F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F0AF-FF03-49EB-8BBF-845FDF029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7147-5836-4B34-A7F9-AF89E9B11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FB0E-097D-4CBA-A4E2-9039975A6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8B82-19A0-4A33-A5B5-6D5C0B7A1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2AE9FC-D029-4C50-87AE-CD260909AE3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