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836181"/>
        <c:axId val="82442416"/>
      </c:barChart>
      <c:catAx>
        <c:axId val="448361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42416"/>
        <c:crosses val="autoZero"/>
        <c:auto val="1"/>
        <c:lblAlgn val="ctr"/>
        <c:lblOffset val="100"/>
        <c:noMultiLvlLbl val="0"/>
      </c:catAx>
      <c:valAx>
        <c:axId val="82442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361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12B-5768-4F58-89CC-13F3C7A5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6F3-56D3-4199-9BE5-31089ECF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6B9-531E-4293-A16E-6E68C504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427-30B9-4A40-A018-2A73F9D0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F35-696D-4712-8635-9A18FE8C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0ABB-B849-44E3-B30D-66EA53BD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30B-ADC0-4509-A21A-10A785B1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4A5-F779-4E2E-A7D7-8A4496C6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F96-F827-4A6F-A8AC-C18E2CE3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C4A-B4D6-496F-B8E0-2EE5FC7E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3E1-56A6-44F5-831A-15E2E193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D43-8712-4728-B837-119A8DFD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9D376-13E7-455C-88C7-AF298390E2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