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1149"/>
        <c:axId val="54014935"/>
      </c:barChart>
      <c:catAx>
        <c:axId val="6051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14935"/>
        <c:crosses val="autoZero"/>
        <c:auto val="1"/>
        <c:lblAlgn val="ctr"/>
        <c:lblOffset val="100"/>
        <c:noMultiLvlLbl val="0"/>
      </c:catAx>
      <c:valAx>
        <c:axId val="54014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1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9FA-E6B6-45CD-B314-9337637A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236-8520-4F17-9D07-53A4EC1C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8E4-30B1-4FBA-B195-A0A15B21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968-CE83-46C7-A1A2-49E9087D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80C-B16F-4A37-AAD9-5DFC68F3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523-AE96-4E73-BAC9-75275FEE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D12-DD4F-4508-A90E-379EB762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BC5-11FC-4709-A4C8-42FCEF82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61F-6D1A-4153-9453-CF2F1BEF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D0C-2756-4B0D-AECF-8E37FAC9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173-B69D-4043-993F-DEC66246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AB2-33EE-416F-A241-2E5013E8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2BF14-5D5E-4D32-99A3-2B7ED7D7E6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