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74481"/>
        <c:axId val="45871389"/>
      </c:barChart>
      <c:catAx>
        <c:axId val="55474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71389"/>
        <c:crosses val="autoZero"/>
        <c:auto val="1"/>
        <c:lblAlgn val="ctr"/>
        <c:lblOffset val="100"/>
        <c:noMultiLvlLbl val="0"/>
      </c:catAx>
      <c:valAx>
        <c:axId val="45871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4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539-C6A2-4753-8B85-85C5A50B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038-9290-4B24-B0AB-CAFAC9AD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AC6-83EC-4001-AC94-6E577115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B83-D145-490E-A038-7BAD5B39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147-EACA-4E12-959D-D05458C5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599-B24A-4978-85FB-0432A0E1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815-5A23-48BB-81B3-8532FD7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0F7-E186-46C3-A20D-85AB41D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F80-C7E1-41BE-ABFB-10D6D0AB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EE9-6B8A-4D1E-BECD-297D7A0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5AC-868D-4857-97B3-7785B9E9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6EA-29C5-49EC-B733-AFD34B2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5086-503E-4197-97C8-CF686CDCD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