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597753"/>
        <c:axId val="66567369"/>
      </c:barChart>
      <c:catAx>
        <c:axId val="625977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67369"/>
        <c:crosses val="autoZero"/>
        <c:auto val="1"/>
        <c:lblAlgn val="ctr"/>
        <c:lblOffset val="100"/>
        <c:noMultiLvlLbl val="0"/>
      </c:catAx>
      <c:valAx>
        <c:axId val="665673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977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7E3B-8BA0-4126-A242-0D8B5A71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65A4-F54F-40EB-8F17-D2F60F9F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92E6-E141-4CE5-81B9-6CFE2C5C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AF7A-C552-4759-A032-74438468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5B18-3825-43C3-AE46-9373DD22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0C63-3F98-4237-9C47-82B66B62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A2C8-22B2-45C9-8EC2-401E75AA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F2C2-1E74-4F20-A147-CF39A30A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C777-F1E4-4A0B-9A5F-B079E47B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4330-CD6C-4DD5-A0E7-64A6AE0F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F851-3B5A-46CC-9714-4E87EE87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6632-067B-4DA6-B0DD-75B83EFD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00B05-2FB8-48DE-B9F9-AF9B609B17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